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06C-8F26-4E93-BD58-8E4584A7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CC7-2225-48BA-850A-6BEA93C7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FEA-19EF-4B31-8372-9A868DD2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87C-7CC0-4851-8F65-5F2DE028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B51-EFA9-4EC8-97C0-C07ADDCF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338-FD92-4C3E-9C19-E449DB3D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F86-6A1A-474C-A7FF-A6E5205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6C3-2933-4484-9EF0-FCC5BA4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36C-BFA0-4D6C-9FA9-7FE80D58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D42-CAF0-4BDF-BA16-0DAAD5C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851-82AE-4B2F-90EF-A485714C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765-83DB-40F6-AA38-979A3EB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53DE-56A1-47AB-8A72-DD3C545B8FF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8 Vstaň, ľud Boží, vsta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ov je b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ľud Boží, vsta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sť vpred velí Ti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 a neváh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o práce sa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tít viery, meč Ducha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sa sp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ov je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án vedie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obzeraj sa spä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š vznešený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 je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 neho vždy môžeš náj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ých síl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ov je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z, že v zápaso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ždy s tebou tvoj Bo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odlitby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i odpovie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a útoky odraz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ončí sa 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buď stato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45:41Z</dcterms:modified>
  <cp:revision>22</cp:revision>
  <dc:subject/>
  <dc:title>Je veľký náš Pán, on slávy je Kráľ Nech do všetkých strán  spev vrúcnych znie chvál.</dc:title>
</cp:coreProperties>
</file>